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536-B279-4AC8-8F2C-70940020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D45-62D0-4417-89CA-A3586A0F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FF62-B18D-4267-97D9-20B6A148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D3F-C4AC-4F23-95DE-3A1DB5C3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ADD4-83A7-45B0-B0AA-34EE9241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3FA7-3DF5-4B9A-866B-359C0C4F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2A8E-46F0-49D6-A2FB-A757B334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5C34-085D-4910-B132-4A493D3D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DA3C-51A1-43B7-8AF9-A64BB446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F5BC-BA92-45EF-B75E-B7084329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6B2C-8E50-45E8-AEA1-790F45A2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44E5-09E8-4CFB-89C1-887C810C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8FB3-0CE0-4CC3-ABEF-B0B77BED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143F-8EA8-41B4-8153-0A1A27FB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4F01-EC64-4BEA-B8A6-797B0B95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11BA-F4FC-4755-A7FE-D6BD9DB0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6CB9-128C-4F58-84B1-0E023F91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F59EA-C63D-49F0-9694-575CDEBA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B4793-9C46-4DE8-9FEB-D5E91F3F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F043C-7716-44B1-A755-CFCE67BE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B89D5-6383-4397-9007-4034C974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63778-BDC0-497B-A536-71FE4962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1C5-FF87-4322-9117-1AEE5A9B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A51D8-C276-4BC9-95AA-93CAF316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74BD7-19C3-43CA-8D1A-E9E3D299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4F1FD-E6B5-4B4F-A516-0EC09206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4F14-A891-4046-B4EC-D32C24C5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1241-3901-4C71-8D0B-FBADDE3C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0C657-1E1E-42F4-8DE8-109F6FF0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5E5F1-3218-4E62-8B01-85797F7F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9A2BA-3BEA-442B-A28C-68B4BEDD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37063-5BD0-43D6-817E-F981A984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942F5-FA39-438E-BB53-265A6129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D16-988A-4A93-B0B4-AAEE1024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FCE3A-D2C8-4F49-8C5B-0BE7A6B2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87DC3-AA55-4402-8C76-E270AB18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71A7C-75B3-44BF-8DD6-FCFAAB25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115CB-68D2-4134-87A3-A385F84A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DC3FB-9F0B-4E4D-A23F-9499FC48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429B9-FD96-4741-AC87-6D8F6C38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9B32C-506A-487D-9F4D-A3FB5E57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561C1-7A33-408F-ABEA-7F2303AB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289B1-4FAC-43B2-9751-7C6C6749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B9FA6-AD14-42A0-A0C7-9E710657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45F-A1D1-45C3-B015-3DB17D73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F80EB-6AAA-40A6-B5FE-64092B50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ADCA3-D395-4345-8248-A49E0F44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5FFA1-BA18-4B74-A073-72F52D9A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63130-74A0-492F-8940-7965D40B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06FEE-B844-403D-B0FD-7ACA4ADC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D5F75-A301-4A72-94E5-31A5A33E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AD27C-0774-47D7-ADD7-2B623ADF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C9320-C3E9-4F29-BA07-9C9C1C65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74D81-48E4-457F-B631-B4B6CB1E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3284B-3A70-4022-B521-4DF65E25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EF3-98F9-4D70-9B72-7F4DEBA6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19F1E-C134-4E5D-8EFD-1FC92FBE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471-AF83-440E-88FF-94169BF8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821-5874-40E0-9931-898A6C4D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253-EAA9-4975-AB4D-3CD02775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B821-BC5C-4C8E-ACE8-4670DA27D2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B4C1-93C2-4258-AC49-FF9CDC3F5F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486E-5F6F-40B9-9AF6-6E067411FA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34D6-5AC0-47CF-84F0-4508359D75B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0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0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DCD6-7CE3-430B-A8FE-DFDC5A314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Лекция 7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94920" y="3212640"/>
            <a:ext cx="828036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Моделирование динамики инфляци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АНАЛИЗ РАЗВИТИЯ ИНФЛЯЦИИ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МОНЕТАРНЫЙ ПОДХОД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971640" y="5950080"/>
                <a:ext cx="33843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ω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+</m:t>
                    </m:r>
                    <m:limUpp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0" y="52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042920" y="2141640"/>
                <a:ext cx="3783240" cy="38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инамика экономи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50920" y="2421000"/>
                <a:ext cx="77058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ω</m:t>
                        </m:r>
                      </m:e>
                      <m:lim/>
                    </m:limUpp>
                    <m:r>
                      <m:t xml:space="preserve">=</m:t>
                    </m:r>
                    <m:f>
                      <m:num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Δ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ϕ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ϕ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0" y="5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85080" y="285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8244000" y="2708280"/>
                <a:ext cx="538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0" y="2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124000" y="4292640"/>
                <a:ext cx="14400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m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0" y="3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стояние ”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ady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2627280" y="2924280"/>
                <a:ext cx="15130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ω</m:t>
                        </m:r>
                      </m:e>
                      <m:lim>
                        <m:r>
                          <m:t xml:space="preserve">⋅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0" y="4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987640" y="4508640"/>
                <a:ext cx="13683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/>
                    </m:limUpp>
                    <m:r>
                      <m:t xml:space="preserve">=</m:t>
                    </m:r>
                    <m:sSup>
                      <m:e>
                        <m:limUpp>
                          <m:e>
                            <m:r>
                              <m:t xml:space="preserve">p</m:t>
                            </m:r>
                          </m:e>
                          <m:lim/>
                        </m:limUpp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стояние 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ady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835280" y="2781360"/>
                <a:ext cx="28080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ω</m:t>
                        </m:r>
                      </m:e>
                      <m:lim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ϕ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r>
                                  <m:t xml:space="preserve">m</m:t>
                                </m:r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ω</m:t>
                                </m:r>
                              </m:e>
                              <m:lim/>
                            </m:limUpp>
                          </m:e>
                        </m:d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5580000" y="2637000"/>
                <a:ext cx="17287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r>
                              <m:t xml:space="preserve">π</m:t>
                            </m:r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  <m:lim/>
                        </m:limUp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0" y="37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37400" y="2868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700360" y="4149720"/>
                <a:ext cx="20876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ω</m:t>
                        </m:r>
                      </m:e>
                      <m:lim/>
                    </m:limUpp>
                    <m:r>
                      <m:t xml:space="preserve">=</m:t>
                    </m:r>
                    <m:limUpp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</m:e>
                      <m:lim/>
                    </m:limUpp>
                    <m:limUpp>
                      <m:e>
                        <m:limUpp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  <m:lim/>
                        </m:limUpp>
                      </m:e>
                      <m:lim/>
                    </m:limUp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0" y="361800"/>
          <a:ext cx="8785080" cy="649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1800"/>
                    <a:ext cx="878508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онетариские правила стабилизации экономи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ольшой уровень инфляции следует понижать проводя “жесткую монетарную политику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авительство, пытающееся поддержать безработицу на постоянном уровне ниже естественного с помощью политики, стимулирующей спрос, должно делать это очень осторожно, так как это провоцирует ускорение инфляци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инамическая модель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 -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547640" y="1916280"/>
                <a:ext cx="4691160" cy="47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ривая совокупного предлож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(1)-(2) выводим уравне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11280" y="3357720"/>
                <a:ext cx="81010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ривая совокупного спро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(3)-(5) выводим уравне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050920" y="3357720"/>
                <a:ext cx="489600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Динамика совокупного спроса и совокупного предложе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619280" y="2060640"/>
                <a:ext cx="4896000" cy="18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e>
                      <m:lim/>
                    </m:limUp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e>
                        </m: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limUpp>
                              <m:e>
                                <m:r>
                                  <m:t xml:space="preserve">m</m:t>
                                </m:r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/>
                            </m:limUpp>
                          </m:e>
                          <m:lim/>
                        </m:limUp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619280" y="4292640"/>
                <a:ext cx="3672000" cy="17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e>
                      <m:lim/>
                    </m:limUpp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limUpp>
                              <m:e>
                                <m:r>
                                  <m:t xml:space="preserve">ω</m:t>
                                </m:r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/>
                            </m:limUpp>
                          </m:e>
                          <m:lim/>
                        </m:limUp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АНАЛИЗ РАЗВИТИЯ ИНФЛЯЦИИ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КЕЙНСИАНСКИЙ ПОДХОД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0" y="5643720"/>
                <a:ext cx="342252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limUpp>
                          <m:e>
                            <m:r>
                              <m:t xml:space="preserve">ω</m:t>
                            </m:r>
                          </m:e>
                          <m:lim/>
                        </m:limUpp>
                      </m:e>
                      <m:lim/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ϕ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0" y="1916280"/>
                <a:ext cx="4133880" cy="41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инамика экономик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95280" y="2276640"/>
                <a:ext cx="87487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ω</m:t>
                        </m:r>
                      </m:e>
                      <m:lim/>
                    </m:limUpp>
                    <m:r>
                      <m:t xml:space="preserve">=</m:t>
                    </m:r>
                    <m:f>
                      <m:num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Δ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ϕ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ϕ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0" y="5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95280" y="3284640"/>
                <a:ext cx="1224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m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0" y="36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84360" y="5661000"/>
                <a:ext cx="38876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16560" y="582120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0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539640" y="476280"/>
          <a:ext cx="8604360" cy="621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604360" cy="62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0" y="49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стояние 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ady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619280" y="2205000"/>
                <a:ext cx="15127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ω</m:t>
                        </m:r>
                      </m:e>
                      <m:lim>
                        <m:r>
                          <m:t xml:space="preserve">⋅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0" y="3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619280" y="3645000"/>
                <a:ext cx="33843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ω</m:t>
                        </m:r>
                      </m:e>
                      <m:lim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ϕ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r>
                                  <m:t xml:space="preserve">m</m:t>
                                </m:r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ω</m:t>
                                </m:r>
                              </m:e>
                              <m:lim/>
                            </m:limUpp>
                          </m:e>
                        </m:d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476360" y="4941720"/>
                <a:ext cx="23763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ω</m:t>
                        </m:r>
                      </m:e>
                      <m:lim/>
                    </m:limUpp>
                    <m:r>
                      <m:t xml:space="preserve">=</m:t>
                    </m:r>
                    <m:limUpp>
                      <m:e>
                        <m:r>
                          <m:t xml:space="preserve">m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00:29:02Z</dcterms:created>
  <dc:creator>Ирина Кавицкая</dc:creator>
  <dc:description/>
  <dc:language>en-US</dc:language>
  <cp:lastModifiedBy>1</cp:lastModifiedBy>
  <dcterms:modified xsi:type="dcterms:W3CDTF">2012-05-20T05:14:22Z</dcterms:modified>
  <cp:revision>4</cp:revision>
  <dc:subject/>
  <dc:title>Слайд 1</dc:title>
</cp:coreProperties>
</file>